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7863-5D4F-4594-A778-2A1C9DF8E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80FD-1644-4D71-AB7D-E40A09BF7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EB39-BBE8-4B20-B04F-FA9A8CFFC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721C-CFAA-4207-8BAB-A094CF3D6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3D67AF-2D4A-4BB3-80EA-191C15C85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ED2668-14F5-427F-8B0C-F6E7A245E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E7D553-77E3-42B3-9197-8A7E8FA8E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C38D34-B828-49A8-86C4-62A25E099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6E936A-572C-4AC8-A8D5-47F5FC9DE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B9A0BE-2729-4608-856D-6FA3C32BD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AD5F4C-2073-4C75-8C64-32335FB01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6984-107A-4828-BA8E-85D24F996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50DE71-538A-46B5-BD8E-12337DC05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14AEE7-2C04-4537-8C0D-61C4846F2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897DD3-BEF7-499B-B0C0-3DBB4D35C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3425D2-884C-46C1-846F-50912C360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A77221-EDD4-4F1E-8596-3961FBBA7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4EDD-605A-41C4-9485-69E5D4368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4F17-2CEE-433B-B7E4-D086058D4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C909-96D8-429B-B0C9-E00F6B4F7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BA5C-CA8C-40F8-BA4E-13B9AC8FD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A233-C004-40F3-AEB1-CAE77414B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C5A6-E401-45A4-B888-A25FE3C4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0EA8-FDB8-4FB3-B361-6E77779B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CCC6E-741D-4FA0-A7C2-339AC770AC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C0A2E-E76E-41A9-92D6-0439C189E3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ls/GOVK12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rofessional athlet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: tyron sne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you would practice 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takes hard practice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 able to work with a tea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k on your jump shot and dribb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le to play in front of a crow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ow to make it from grade school to college 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 would play on the middle school team when you are in the 4 or the 5 grade.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 would play with people that you know that you will not win  that eas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r school wise you need to graduate  from high schoo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new rule that just had been past is that if you go to college  you a least need two years of college and tying to get a degree in a job just incase it does not work ou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is the chance of you getting this job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hance of you getting this job one and the million but, if you work hard you can make i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e much does the job   pa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job pays 51,000 dollars + a sign bonus with the team you play for of 50,000 .  The pay for this job is also on your talent  . How well you can  work on a team. Extra : in a year a professional sports player earns a million dolla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ere do  have to go  to schoo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would have to a school that is four yea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also  the schools have to have a sports team that you like to go pro wi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ERE WOULD I GO TO SCHOL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WOULD GO TO TENNESE  COLLGE FOR 4 YEARS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WOULD ALSO PLAY BASKETBALL FOR THERE TEA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IF I DID GO TO THE NBA  , I WOUL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Y FOR THE LAKE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5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5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5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5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5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5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5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5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NF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GOT ALL MT INFO FROM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WWW.BLS/GOVK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MY BRAI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5T18:17:21Z</dcterms:created>
  <dc:creator>Tyron.Snead</dc:creator>
  <dc:description/>
  <dc:language>en-US</dc:language>
  <cp:lastModifiedBy>Tyron.Snead</cp:lastModifiedBy>
  <dcterms:modified xsi:type="dcterms:W3CDTF">2008-05-01T18:44:36Z</dcterms:modified>
  <cp:revision>4</cp:revision>
  <dc:subject/>
  <dc:title>Professional athlete</dc:title>
</cp:coreProperties>
</file>